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EE83-0B26-4A82-ACDF-1B016E5C4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D80D-8BB8-487D-9A28-7DB1A248A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5A61-3015-4F5E-AA2C-22B179DCD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0246-7976-4CB3-9D03-88CA21947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9EDEB-FE84-4390-9492-FFB8A5423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432FE-DB35-4C64-ACE2-1E67A55E3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498C7-1257-4380-A881-830D90DB6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95874-1469-4262-AD98-E927F08D9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5A749-E737-4D24-8B18-4C7D5078A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64E6C-2951-4F86-8DE7-8CED3210D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A594A-9D3F-4479-A2A3-2FC449B4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C1D2-A6C6-4AAF-803A-C6CAFF2A7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E3A72-C6FA-4A36-92BC-C2E2F112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74DE5-91FB-4F03-9278-02584675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4C79E-EAAB-4B69-941B-B9971437F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1952C-BAC8-4180-8552-2503E26DE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2612D-4AA5-471A-B9F5-76FF23D1A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027A-1471-426E-B5FD-95B84456F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35A2-F8B4-4C58-9567-B2A4C2C5F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3227-83FE-4EE2-863C-BB8890003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CA0E-16A9-449D-9A9C-AC0F68E1F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32F2-711B-4269-BDBE-8CF85A3B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6B86-5CDB-4E74-850E-C2AE8D79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F9E3-D282-4D9E-ADEC-49A02F499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E6DDD-6573-4BAB-88EB-09A8A63B24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DDAC6-20DA-45F9-96F5-B989DF5536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ushistory.org/Declaration/document/index.htm" TargetMode="External"/><Relationship Id="rId2" Type="http://schemas.openxmlformats.org/officeDocument/2006/relationships/hyperlink" Target="http://www.ushistory.org/DECLARATION/revwartimeline.htm" TargetMode="External"/><Relationship Id="rId3" Type="http://schemas.openxmlformats.org/officeDocument/2006/relationships/hyperlink" Target="http://http/www.ushistory.org/DECLARATION/revwartimeline.htm" TargetMode="External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Early American History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arly Peop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unting, gathering and farming were important parts for the Native American life style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er, fish, roots, nuts, berries, corn, beans, squash, melons and other crops were ea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roughout the Native American’s history they have been in turmoil with each othe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648320" y="1828800"/>
            <a:ext cx="3657600" cy="3581280"/>
            <a:chOff x="4648320" y="1828800"/>
            <a:chExt cx="3657600" cy="3581280"/>
          </a:xfrm>
        </p:grpSpPr>
        <p:pic>
          <p:nvPicPr>
            <p:cNvPr id="216" name="" descr=""/>
            <p:cNvPicPr/>
            <p:nvPr/>
          </p:nvPicPr>
          <p:blipFill>
            <a:blip r:embed="rId1"/>
            <a:stretch/>
          </p:blipFill>
          <p:spPr>
            <a:xfrm>
              <a:off x="4648320" y="1828800"/>
              <a:ext cx="3657600" cy="358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 txBox="1"/>
            <p:nvPr/>
          </p:nvSpPr>
          <p:spPr>
            <a:xfrm>
              <a:off x="4648320" y="1828800"/>
              <a:ext cx="3657600" cy="358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99ff99"/>
                </a:buClr>
                <a:buSzPct val="80000"/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98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98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98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98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Coloni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ony – is a settlement that is ruled by a faraway gover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me the reasons people came to the new wor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ligious freedom, rich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me some items people traded or so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ain, flour, lumber, furs, dried meat &amp; salted fis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ver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 up own government, wrote laws, elected own lea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4876920" y="1828800"/>
            <a:ext cx="3427200" cy="3840120"/>
            <a:chOff x="4876920" y="1828800"/>
            <a:chExt cx="3427200" cy="3840120"/>
          </a:xfrm>
        </p:grpSpPr>
        <p:pic>
          <p:nvPicPr>
            <p:cNvPr id="221" name="" descr=""/>
            <p:cNvPicPr/>
            <p:nvPr/>
          </p:nvPicPr>
          <p:blipFill>
            <a:blip r:embed="rId1"/>
            <a:stretch/>
          </p:blipFill>
          <p:spPr>
            <a:xfrm>
              <a:off x="4876920" y="1828800"/>
              <a:ext cx="3427200" cy="384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 txBox="1"/>
            <p:nvPr/>
          </p:nvSpPr>
          <p:spPr>
            <a:xfrm>
              <a:off x="4876920" y="1828800"/>
              <a:ext cx="3427200" cy="3840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99ff99"/>
                </a:buClr>
                <a:buSzPct val="80000"/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0880" y="5029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lonies becoming United States of Amer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Declaration of Independ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I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American Revolu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4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wo ways taxes are raised in the coloni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4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wo reasons the colonist become frustrated with Eng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4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wo reasons the Declaration of Independence was wro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4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Who won the war?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II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ow would your life be different if the outcome of the American Revolution differen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1523880" y="0"/>
            <a:ext cx="632484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xplor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334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gin to complete your webquest on Early American Histor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jo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159084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1T13:07:04Z</dcterms:created>
  <dc:creator>College of Education</dc:creator>
  <dc:description/>
  <dc:language>en-US</dc:language>
  <cp:lastModifiedBy>College of Education</cp:lastModifiedBy>
  <dcterms:modified xsi:type="dcterms:W3CDTF">2009-07-21T13:52:28Z</dcterms:modified>
  <cp:revision>6</cp:revision>
  <dc:subject/>
  <dc:title>Early American History</dc:title>
</cp:coreProperties>
</file>